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chimes.wav" ContentType="audio/x-wav"/>
  <Override PartName="/ppt/media/image4.jpeg" ContentType="image/jpeg"/>
  <Override PartName="/ppt/media/image5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E86-A760-4BF8-988D-95EB78BF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BA3-E506-4F84-A26F-B8A357E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B82-4129-4B2F-BDFA-6B8A998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FE6-9291-4769-AD8A-005480DD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CF2A-2256-4999-9796-649B6B4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2544-6C1A-4912-98A1-05897F2C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566-0632-45DE-84FF-F0158A1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8334-C72D-4A6A-9521-0054271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CD7-BBDA-412A-82F7-1EE0A2F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1F0-60C3-4CFB-A480-92DC8A4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FC1-51CA-4F04-ABDD-88BAA8A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7A9-E32F-4634-8DC1-51BB419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1902-BF2F-42EF-8CC9-75EBBBCD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1B8-D205-48AE-9787-592D26A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7A32-E13A-4BAA-95DA-03E1DD47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291-6E80-47DC-9343-C2B97864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CAD6-CB83-456D-B9E6-E8BBF076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6E6-ECDB-42BA-B3A0-7FB1666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874-70EF-4FA4-BEDA-A427675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E4D-4FAB-4E52-A22A-3741FFD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AB9-A11A-40F7-955A-F5767F52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1DB-662D-417B-BB83-4D6120A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DD1-ABBB-40AD-9CE5-763F518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565-EE1E-4C94-8255-4345790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C58D-22D3-42E4-8173-40C59CD17D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79920"/>
            <a:ext cx="2428920" cy="2248920"/>
            <a:chOff x="7170840" y="-79920"/>
            <a:chExt cx="2428920" cy="22489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79920"/>
              <a:ext cx="2428920" cy="2248920"/>
              <a:chOff x="7170840" y="-79920"/>
              <a:chExt cx="2428920" cy="22489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79920"/>
                <a:ext cx="2428920" cy="2248920"/>
                <a:chOff x="7170840" y="-79920"/>
                <a:chExt cx="2428920" cy="22489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680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720" y="524160"/>
                  <a:ext cx="4276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680" y="286560"/>
                  <a:ext cx="8035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1960"/>
                  <a:ext cx="12060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0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292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6680" y="333360"/>
                  <a:ext cx="28800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520" y="2214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0" name="Group 18"/>
          <p:cNvGrpSpPr/>
          <p:nvPr/>
        </p:nvGrpSpPr>
        <p:grpSpPr>
          <a:xfrm>
            <a:off x="7798320" y="4321440"/>
            <a:ext cx="977040" cy="1155960"/>
            <a:chOff x="7798320" y="4321440"/>
            <a:chExt cx="977040" cy="1155960"/>
          </a:xfrm>
        </p:grpSpPr>
        <p:sp>
          <p:nvSpPr>
            <p:cNvPr id="101" name="Freeform 19"/>
            <p:cNvSpPr/>
            <p:nvPr/>
          </p:nvSpPr>
          <p:spPr>
            <a:xfrm rot="7320000">
              <a:off x="7786800" y="4655880"/>
              <a:ext cx="99540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 rot="7320000">
              <a:off x="7762320" y="4635000"/>
              <a:ext cx="99216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 rot="7320000">
              <a:off x="7929720" y="4620600"/>
              <a:ext cx="658440" cy="4194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" name="Group 22"/>
            <p:cNvGrpSpPr/>
            <p:nvPr/>
          </p:nvGrpSpPr>
          <p:grpSpPr>
            <a:xfrm>
              <a:off x="7798320" y="4321440"/>
              <a:ext cx="977040" cy="1155960"/>
              <a:chOff x="7798320" y="4321440"/>
              <a:chExt cx="977040" cy="1155960"/>
            </a:xfrm>
          </p:grpSpPr>
          <p:sp>
            <p:nvSpPr>
              <p:cNvPr id="105" name="Freeform 23"/>
              <p:cNvSpPr/>
              <p:nvPr/>
            </p:nvSpPr>
            <p:spPr>
              <a:xfrm rot="7320000">
                <a:off x="7916760" y="5064840"/>
                <a:ext cx="9324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7320000">
                <a:off x="7759080" y="4653000"/>
                <a:ext cx="1055520" cy="4924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7320000">
                <a:off x="8042400" y="4765320"/>
                <a:ext cx="74700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7320000">
                <a:off x="8515080" y="4562280"/>
                <a:ext cx="9936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7320000">
                <a:off x="8155080" y="4762800"/>
                <a:ext cx="30528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133-95B8-4E0F-A614-0A0D50B7EB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4000" y="549360"/>
            <a:ext cx="84643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Unit 8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Is there a post office near her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Period 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C:\Documents and Settings\teacher\桌面\魏静\Zw_005.gif"/>
          <p:cNvPicPr/>
          <p:nvPr/>
        </p:nvPicPr>
        <p:blipFill>
          <a:blip r:embed="rId2"/>
          <a:stretch/>
        </p:blipFill>
        <p:spPr>
          <a:xfrm>
            <a:off x="81532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9635" descr="bird12"/>
          <p:cNvPicPr/>
          <p:nvPr/>
        </p:nvPicPr>
        <p:blipFill>
          <a:blip r:embed="rId3"/>
          <a:stretch/>
        </p:blipFill>
        <p:spPr>
          <a:xfrm>
            <a:off x="6877080" y="404640"/>
            <a:ext cx="1270080" cy="10749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" descr="bird12"/>
          <p:cNvPicPr/>
          <p:nvPr/>
        </p:nvPicPr>
        <p:blipFill>
          <a:blip r:embed="rId4"/>
          <a:stretch/>
        </p:blipFill>
        <p:spPr>
          <a:xfrm>
            <a:off x="7550280" y="277920"/>
            <a:ext cx="1369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93600" y="762120"/>
            <a:ext cx="9317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at does Anna like doing in the zo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likes watching the monkeys climbing ar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Anna think monkeys are like people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. Because sometimes they look like her friends and her when they f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at does John like to do at the pa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likes to exerc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ohn thinks the best things do not need money. Do you think s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. I agree with Joh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文本框 1"/>
          <p:cNvSpPr/>
          <p:nvPr/>
        </p:nvSpPr>
        <p:spPr>
          <a:xfrm>
            <a:off x="1752480" y="763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6242495_211056022305_2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4191120" y="2590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2895480"/>
            <a:ext cx="2971800" cy="360"/>
            <a:chOff x="0" y="2895480"/>
            <a:chExt cx="2971800" cy="360"/>
          </a:xfrm>
        </p:grpSpPr>
        <p:sp>
          <p:nvSpPr>
            <p:cNvPr id="159" name="直接连接符 36865"/>
            <p:cNvSpPr/>
            <p:nvPr/>
          </p:nvSpPr>
          <p:spPr>
            <a:xfrm>
              <a:off x="0" y="2895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0" y="28954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0" y="3962520"/>
            <a:ext cx="2971800" cy="360"/>
            <a:chOff x="0" y="3962520"/>
            <a:chExt cx="2971800" cy="360"/>
          </a:xfrm>
        </p:grpSpPr>
        <p:sp>
          <p:nvSpPr>
            <p:cNvPr id="162" name="直接连接符 36866"/>
            <p:cNvSpPr/>
            <p:nvPr/>
          </p:nvSpPr>
          <p:spPr>
            <a:xfrm>
              <a:off x="0" y="39625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0" y="39625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971800" y="3962520"/>
            <a:ext cx="360" cy="2361960"/>
            <a:chOff x="2971800" y="3962520"/>
            <a:chExt cx="360" cy="2361960"/>
          </a:xfrm>
        </p:grpSpPr>
        <p:sp>
          <p:nvSpPr>
            <p:cNvPr id="165" name="直接连接符 36867"/>
            <p:cNvSpPr/>
            <p:nvPr/>
          </p:nvSpPr>
          <p:spPr>
            <a:xfrm>
              <a:off x="2971800" y="39625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971800" y="3962520"/>
              <a:ext cx="360" cy="23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971440" y="609480"/>
            <a:ext cx="360" cy="2286000"/>
            <a:chOff x="2971440" y="609480"/>
            <a:chExt cx="360" cy="2286000"/>
          </a:xfrm>
        </p:grpSpPr>
        <p:sp>
          <p:nvSpPr>
            <p:cNvPr id="168" name="直接连接符 36868"/>
            <p:cNvSpPr/>
            <p:nvPr/>
          </p:nvSpPr>
          <p:spPr>
            <a:xfrm flipV="1">
              <a:off x="2971800" y="6094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2971440" y="609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685800"/>
            <a:ext cx="360" cy="2133720"/>
            <a:chOff x="3962520" y="685800"/>
            <a:chExt cx="360" cy="2133720"/>
          </a:xfrm>
        </p:grpSpPr>
        <p:sp>
          <p:nvSpPr>
            <p:cNvPr id="171" name="直接连接符 36869"/>
            <p:cNvSpPr/>
            <p:nvPr/>
          </p:nvSpPr>
          <p:spPr>
            <a:xfrm>
              <a:off x="3962520" y="685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3962520" y="68580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62520" y="2819520"/>
            <a:ext cx="1523880" cy="360"/>
            <a:chOff x="3962520" y="2819520"/>
            <a:chExt cx="1523880" cy="360"/>
          </a:xfrm>
        </p:grpSpPr>
        <p:sp>
          <p:nvSpPr>
            <p:cNvPr id="174" name="直接连接符 36870"/>
            <p:cNvSpPr/>
            <p:nvPr/>
          </p:nvSpPr>
          <p:spPr>
            <a:xfrm>
              <a:off x="3962520" y="2819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962520" y="2819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486040" y="685440"/>
            <a:ext cx="360" cy="2133720"/>
            <a:chOff x="5486040" y="685440"/>
            <a:chExt cx="360" cy="2133720"/>
          </a:xfrm>
        </p:grpSpPr>
        <p:sp>
          <p:nvSpPr>
            <p:cNvPr id="177" name="直接连接符 36871"/>
            <p:cNvSpPr/>
            <p:nvPr/>
          </p:nvSpPr>
          <p:spPr>
            <a:xfrm flipV="1">
              <a:off x="5486400" y="6854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5486040" y="68544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86200" y="4038480"/>
            <a:ext cx="360" cy="2286000"/>
            <a:chOff x="3886200" y="4038480"/>
            <a:chExt cx="360" cy="2286000"/>
          </a:xfrm>
        </p:grpSpPr>
        <p:sp>
          <p:nvSpPr>
            <p:cNvPr id="180" name="直接连接符 36872"/>
            <p:cNvSpPr/>
            <p:nvPr/>
          </p:nvSpPr>
          <p:spPr>
            <a:xfrm>
              <a:off x="3886200" y="40384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88620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343400" y="3962520"/>
            <a:ext cx="1066680" cy="360"/>
            <a:chOff x="4343400" y="3962520"/>
            <a:chExt cx="1066680" cy="360"/>
          </a:xfrm>
        </p:grpSpPr>
        <p:sp>
          <p:nvSpPr>
            <p:cNvPr id="183" name="直接连接符 36873"/>
            <p:cNvSpPr/>
            <p:nvPr/>
          </p:nvSpPr>
          <p:spPr>
            <a:xfrm>
              <a:off x="4343400" y="3962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43400" y="39625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410080" y="3962520"/>
            <a:ext cx="360" cy="2209680"/>
            <a:chOff x="5410080" y="3962520"/>
            <a:chExt cx="360" cy="2209680"/>
          </a:xfrm>
        </p:grpSpPr>
        <p:sp>
          <p:nvSpPr>
            <p:cNvPr id="186" name="直接连接符 36874"/>
            <p:cNvSpPr/>
            <p:nvPr/>
          </p:nvSpPr>
          <p:spPr>
            <a:xfrm>
              <a:off x="5410080" y="39625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410080" y="396252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324480" y="2819520"/>
            <a:ext cx="1828800" cy="360"/>
            <a:chOff x="6324480" y="2819520"/>
            <a:chExt cx="1828800" cy="360"/>
          </a:xfrm>
        </p:grpSpPr>
        <p:sp>
          <p:nvSpPr>
            <p:cNvPr id="189" name="直接连接符 36875"/>
            <p:cNvSpPr/>
            <p:nvPr/>
          </p:nvSpPr>
          <p:spPr>
            <a:xfrm>
              <a:off x="6324480" y="28195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324480" y="28195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685800"/>
            <a:ext cx="360" cy="2133720"/>
            <a:chOff x="6324480" y="685800"/>
            <a:chExt cx="360" cy="2133720"/>
          </a:xfrm>
        </p:grpSpPr>
        <p:sp>
          <p:nvSpPr>
            <p:cNvPr id="192" name="直接连接符 36876"/>
            <p:cNvSpPr/>
            <p:nvPr/>
          </p:nvSpPr>
          <p:spPr>
            <a:xfrm>
              <a:off x="6324480" y="685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324480" y="68580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48520" y="4038480"/>
            <a:ext cx="360" cy="2133720"/>
            <a:chOff x="6248520" y="4038480"/>
            <a:chExt cx="360" cy="2133720"/>
          </a:xfrm>
        </p:grpSpPr>
        <p:sp>
          <p:nvSpPr>
            <p:cNvPr id="195" name="直接连接符 36877"/>
            <p:cNvSpPr/>
            <p:nvPr/>
          </p:nvSpPr>
          <p:spPr>
            <a:xfrm>
              <a:off x="6248520" y="40384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248520" y="403848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24480" y="3962520"/>
            <a:ext cx="1905120" cy="360"/>
            <a:chOff x="6324480" y="3962520"/>
            <a:chExt cx="1905120" cy="360"/>
          </a:xfrm>
        </p:grpSpPr>
        <p:sp>
          <p:nvSpPr>
            <p:cNvPr id="198" name="直接连接符 36878"/>
            <p:cNvSpPr/>
            <p:nvPr/>
          </p:nvSpPr>
          <p:spPr>
            <a:xfrm>
              <a:off x="6324480" y="39625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6324480" y="396252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" name="矩形 36879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图片 36880" descr="扫描0001"/>
          <p:cNvPicPr/>
          <p:nvPr/>
        </p:nvPicPr>
        <p:blipFill>
          <a:blip r:embed="rId1"/>
          <a:srcRect l="72502" t="65560" r="19168" b="9999"/>
          <a:stretch/>
        </p:blipFill>
        <p:spPr>
          <a:xfrm>
            <a:off x="3962520" y="4191120"/>
            <a:ext cx="1295280" cy="1447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6881" descr="扫描0001"/>
          <p:cNvPicPr/>
          <p:nvPr/>
        </p:nvPicPr>
        <p:blipFill>
          <a:blip r:embed="rId2"/>
          <a:srcRect l="29167" t="32503" r="61667" b="42222"/>
          <a:stretch/>
        </p:blipFill>
        <p:spPr>
          <a:xfrm>
            <a:off x="990720" y="990720"/>
            <a:ext cx="1752480" cy="1733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6882" descr="扫描0001"/>
          <p:cNvPicPr/>
          <p:nvPr/>
        </p:nvPicPr>
        <p:blipFill>
          <a:blip r:embed="rId3"/>
          <a:srcRect l="60835" t="32042" r="25833" b="40004"/>
          <a:stretch/>
        </p:blipFill>
        <p:spPr>
          <a:xfrm>
            <a:off x="228600" y="4038480"/>
            <a:ext cx="1654200" cy="191772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36883"/>
          <p:cNvSpPr/>
          <p:nvPr/>
        </p:nvSpPr>
        <p:spPr>
          <a:xfrm>
            <a:off x="395280" y="5805360"/>
            <a:ext cx="11286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椭圆 36884"/>
          <p:cNvSpPr/>
          <p:nvPr/>
        </p:nvSpPr>
        <p:spPr>
          <a:xfrm>
            <a:off x="4419720" y="57150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流程图: 可选过程 36885"/>
          <p:cNvSpPr/>
          <p:nvPr/>
        </p:nvSpPr>
        <p:spPr>
          <a:xfrm>
            <a:off x="3962520" y="685800"/>
            <a:ext cx="1447560" cy="990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mar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八边形 36886"/>
          <p:cNvSpPr/>
          <p:nvPr/>
        </p:nvSpPr>
        <p:spPr>
          <a:xfrm>
            <a:off x="4038480" y="1828800"/>
            <a:ext cx="1371600" cy="990720"/>
          </a:xfrm>
          <a:prstGeom prst="octagon">
            <a:avLst>
              <a:gd name="adj" fmla="val 2928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矩形 36887"/>
          <p:cNvSpPr/>
          <p:nvPr/>
        </p:nvSpPr>
        <p:spPr>
          <a:xfrm>
            <a:off x="6477120" y="838080"/>
            <a:ext cx="9144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矩形 36888"/>
          <p:cNvSpPr/>
          <p:nvPr/>
        </p:nvSpPr>
        <p:spPr>
          <a:xfrm>
            <a:off x="6629400" y="4191120"/>
            <a:ext cx="129528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椭圆 36889"/>
          <p:cNvSpPr/>
          <p:nvPr/>
        </p:nvSpPr>
        <p:spPr>
          <a:xfrm>
            <a:off x="6324480" y="1828800"/>
            <a:ext cx="15242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椭圆 36890"/>
          <p:cNvSpPr/>
          <p:nvPr/>
        </p:nvSpPr>
        <p:spPr>
          <a:xfrm>
            <a:off x="6629400" y="5486400"/>
            <a:ext cx="16002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3505320"/>
            <a:ext cx="914400" cy="360"/>
            <a:chOff x="1219320" y="3505320"/>
            <a:chExt cx="914400" cy="360"/>
          </a:xfrm>
        </p:grpSpPr>
        <p:sp>
          <p:nvSpPr>
            <p:cNvPr id="213" name="直接连接符 36891"/>
            <p:cNvSpPr/>
            <p:nvPr/>
          </p:nvSpPr>
          <p:spPr>
            <a:xfrm>
              <a:off x="121932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219320" y="3505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86000" y="3505320"/>
            <a:ext cx="1447920" cy="360"/>
            <a:chOff x="2286000" y="3505320"/>
            <a:chExt cx="1447920" cy="360"/>
          </a:xfrm>
        </p:grpSpPr>
        <p:sp>
          <p:nvSpPr>
            <p:cNvPr id="216" name="直接连接符 36892"/>
            <p:cNvSpPr/>
            <p:nvPr/>
          </p:nvSpPr>
          <p:spPr>
            <a:xfrm>
              <a:off x="228600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2286000" y="35053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8" name="文本框 36893"/>
          <p:cNvSpPr/>
          <p:nvPr/>
        </p:nvSpPr>
        <p:spPr>
          <a:xfrm>
            <a:off x="3733920" y="3200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图片 36894" descr="RX_008"/>
          <p:cNvPicPr/>
          <p:nvPr/>
        </p:nvPicPr>
        <p:blipFill>
          <a:blip r:embed="rId4"/>
          <a:stretch/>
        </p:blipFill>
        <p:spPr>
          <a:xfrm>
            <a:off x="228600" y="2971800"/>
            <a:ext cx="411120" cy="9349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3886200" y="3505320"/>
            <a:ext cx="1871640" cy="360"/>
            <a:chOff x="3886200" y="3505320"/>
            <a:chExt cx="1871640" cy="360"/>
          </a:xfrm>
        </p:grpSpPr>
        <p:sp>
          <p:nvSpPr>
            <p:cNvPr id="221" name="直接连接符 36895"/>
            <p:cNvSpPr/>
            <p:nvPr/>
          </p:nvSpPr>
          <p:spPr>
            <a:xfrm>
              <a:off x="3886200" y="35053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886200" y="35053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24000" y="2636640"/>
            <a:ext cx="360" cy="934920"/>
            <a:chOff x="5724000" y="2636640"/>
            <a:chExt cx="360" cy="934920"/>
          </a:xfrm>
        </p:grpSpPr>
        <p:sp>
          <p:nvSpPr>
            <p:cNvPr id="224" name="直接连接符 36896"/>
            <p:cNvSpPr/>
            <p:nvPr/>
          </p:nvSpPr>
          <p:spPr>
            <a:xfrm flipV="1">
              <a:off x="5724360" y="2636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 rot="10800000">
              <a:off x="5724000" y="2636640"/>
              <a:ext cx="36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文本框 36897"/>
          <p:cNvSpPr/>
          <p:nvPr/>
        </p:nvSpPr>
        <p:spPr>
          <a:xfrm>
            <a:off x="1761120" y="29764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        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文本框 36898"/>
          <p:cNvSpPr/>
          <p:nvPr/>
        </p:nvSpPr>
        <p:spPr>
          <a:xfrm>
            <a:off x="5150160" y="33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文本框 36899"/>
          <p:cNvSpPr/>
          <p:nvPr/>
        </p:nvSpPr>
        <p:spPr>
          <a:xfrm>
            <a:off x="5336640" y="2121840"/>
            <a:ext cx="9118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ngfu                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14640" y="1371600"/>
            <a:ext cx="360" cy="1163520"/>
            <a:chOff x="5714640" y="1371600"/>
            <a:chExt cx="360" cy="1163520"/>
          </a:xfrm>
        </p:grpSpPr>
        <p:sp>
          <p:nvSpPr>
            <p:cNvPr id="230" name="直接连接符 36900"/>
            <p:cNvSpPr/>
            <p:nvPr/>
          </p:nvSpPr>
          <p:spPr>
            <a:xfrm flipV="1">
              <a:off x="5715000" y="1371600"/>
              <a:ext cx="0" cy="116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0800000">
              <a:off x="5714640" y="1371600"/>
              <a:ext cx="360" cy="11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715000" y="1295280"/>
            <a:ext cx="576360" cy="360"/>
            <a:chOff x="5715000" y="1295280"/>
            <a:chExt cx="576360" cy="360"/>
          </a:xfrm>
        </p:grpSpPr>
        <p:sp>
          <p:nvSpPr>
            <p:cNvPr id="233" name="直接连接符 36901"/>
            <p:cNvSpPr/>
            <p:nvPr/>
          </p:nvSpPr>
          <p:spPr>
            <a:xfrm>
              <a:off x="5715000" y="1295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715000" y="129528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" name="文本框 36902"/>
          <p:cNvSpPr/>
          <p:nvPr/>
        </p:nvSpPr>
        <p:spPr>
          <a:xfrm>
            <a:off x="534240" y="3352680"/>
            <a:ext cx="44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long Center Str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文本框 36903"/>
          <p:cNvSpPr/>
          <p:nvPr/>
        </p:nvSpPr>
        <p:spPr>
          <a:xfrm>
            <a:off x="6096960" y="29718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rn le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文本框 36904"/>
          <p:cNvSpPr/>
          <p:nvPr/>
        </p:nvSpPr>
        <p:spPr>
          <a:xfrm>
            <a:off x="230760" y="76320"/>
            <a:ext cx="78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's on your right, next to the boo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文本框 36905"/>
          <p:cNvSpPr/>
          <p:nvPr/>
        </p:nvSpPr>
        <p:spPr>
          <a:xfrm>
            <a:off x="3240" y="633888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bank near her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22D-BBB0-4D2B-A9A3-FF0441CEE2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9" descr="8142355"/>
          <p:cNvPicPr/>
          <p:nvPr/>
        </p:nvPicPr>
        <p:blipFill>
          <a:blip r:embed="rId1"/>
          <a:stretch/>
        </p:blipFill>
        <p:spPr>
          <a:xfrm>
            <a:off x="-33480" y="9360"/>
            <a:ext cx="911412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10243"/>
          <p:cNvGrpSpPr/>
          <p:nvPr/>
        </p:nvGrpSpPr>
        <p:grpSpPr>
          <a:xfrm>
            <a:off x="828720" y="865080"/>
            <a:ext cx="3018600" cy="852840"/>
            <a:chOff x="828720" y="865080"/>
            <a:chExt cx="3018600" cy="852840"/>
          </a:xfrm>
        </p:grpSpPr>
        <p:sp>
          <p:nvSpPr>
            <p:cNvPr id="242" name="AutoShape 4"/>
            <p:cNvSpPr/>
            <p:nvPr/>
          </p:nvSpPr>
          <p:spPr>
            <a:xfrm rot="3060000">
              <a:off x="3117960" y="1073160"/>
              <a:ext cx="670680" cy="471240"/>
            </a:xfrm>
            <a:custGeom>
              <a:avLst/>
              <a:gdLst>
                <a:gd name="textAreaLeft" fmla="*/ 117360 w 670680"/>
                <a:gd name="textAreaRight" fmla="*/ 486360 w 6706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828720" y="865080"/>
              <a:ext cx="23407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upermarke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组合 10246"/>
          <p:cNvGrpSpPr/>
          <p:nvPr/>
        </p:nvGrpSpPr>
        <p:grpSpPr>
          <a:xfrm>
            <a:off x="1851120" y="219240"/>
            <a:ext cx="3018600" cy="852840"/>
            <a:chOff x="1851120" y="219240"/>
            <a:chExt cx="3018600" cy="852840"/>
          </a:xfrm>
        </p:grpSpPr>
        <p:sp>
          <p:nvSpPr>
            <p:cNvPr id="245" name="AutoShape 7"/>
            <p:cNvSpPr/>
            <p:nvPr/>
          </p:nvSpPr>
          <p:spPr>
            <a:xfrm rot="3060000">
              <a:off x="4140360" y="427320"/>
              <a:ext cx="670680" cy="471240"/>
            </a:xfrm>
            <a:custGeom>
              <a:avLst/>
              <a:gdLst>
                <a:gd name="textAreaLeft" fmla="*/ 117360 w 670680"/>
                <a:gd name="textAreaRight" fmla="*/ 486360 w 6706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1851120" y="219240"/>
              <a:ext cx="23407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ost offic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" name="组合 10249"/>
          <p:cNvGrpSpPr/>
          <p:nvPr/>
        </p:nvGrpSpPr>
        <p:grpSpPr>
          <a:xfrm>
            <a:off x="0" y="2421000"/>
            <a:ext cx="1710360" cy="768600"/>
            <a:chOff x="0" y="2421000"/>
            <a:chExt cx="1710360" cy="768600"/>
          </a:xfrm>
        </p:grpSpPr>
        <p:sp>
          <p:nvSpPr>
            <p:cNvPr id="248" name="AutoShape 10"/>
            <p:cNvSpPr/>
            <p:nvPr/>
          </p:nvSpPr>
          <p:spPr>
            <a:xfrm rot="3060000">
              <a:off x="1012680" y="2684880"/>
              <a:ext cx="726120" cy="272880"/>
            </a:xfrm>
            <a:custGeom>
              <a:avLst/>
              <a:gdLst>
                <a:gd name="textAreaLeft" fmla="*/ 126360 w 726120"/>
                <a:gd name="textAreaRight" fmla="*/ 528840 w 726120"/>
                <a:gd name="textAreaTop" fmla="*/ 36360 h 272880"/>
                <a:gd name="textAreaBottom" fmla="*/ 23652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35" hR="21600" stAng="10800000" swAng="5400000"/>
                  <a:lnTo>
                    <a:pt x="11957" y="0"/>
                  </a:lnTo>
                  <a:arcTo wR="7535" hR="21600" stAng="-5400000" swAng="1400131"/>
                  <a:lnTo>
                    <a:pt x="19924" y="8019"/>
                  </a:lnTo>
                  <a:lnTo>
                    <a:pt x="17280" y="21600"/>
                  </a:lnTo>
                  <a:lnTo>
                    <a:pt x="11284" y="8019"/>
                  </a:lnTo>
                  <a:lnTo>
                    <a:pt x="13393" y="8019"/>
                  </a:lnTo>
                  <a:arcTo wR="7535" hR="21600" stAng="-3999869" swAng="-1033431"/>
                  <a:lnTo>
                    <a:pt x="9746" y="951"/>
                  </a:lnTo>
                  <a:arcTo wR="7535" hR="21600" stAng="-5766700" swAng="-5033300"/>
                  <a:close/>
                </a:path>
                <a:path fill="darkenLess" w="21600" h="21600">
                  <a:moveTo>
                    <a:pt x="0" y="21600"/>
                  </a:moveTo>
                  <a:arcTo wR="7535" hR="21600" stAng="10800000" swAng="5400000"/>
                  <a:lnTo>
                    <a:pt x="7535" y="0"/>
                  </a:lnTo>
                  <a:arcTo wR="7535" hR="21600" stAng="-5400000" swAng="366700"/>
                  <a:lnTo>
                    <a:pt x="9746" y="951"/>
                  </a:lnTo>
                  <a:arcTo wR="7535" hR="21600" stAng="-5766700" swAng="-50333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0" y="2421000"/>
              <a:ext cx="12470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ank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" name="组合 10252"/>
          <p:cNvGrpSpPr/>
          <p:nvPr/>
        </p:nvGrpSpPr>
        <p:grpSpPr>
          <a:xfrm>
            <a:off x="3527280" y="3357720"/>
            <a:ext cx="2181240" cy="1298160"/>
            <a:chOff x="3527280" y="3357720"/>
            <a:chExt cx="2181240" cy="1298160"/>
          </a:xfrm>
        </p:grpSpPr>
        <p:sp>
          <p:nvSpPr>
            <p:cNvPr id="251" name="AutoShape 13"/>
            <p:cNvSpPr/>
            <p:nvPr/>
          </p:nvSpPr>
          <p:spPr>
            <a:xfrm rot="8280000">
              <a:off x="3825360" y="3670920"/>
              <a:ext cx="1191960" cy="672480"/>
            </a:xfrm>
            <a:custGeom>
              <a:avLst/>
              <a:gdLst>
                <a:gd name="textAreaLeft" fmla="*/ 236520 w 1191960"/>
                <a:gd name="textAreaRight" fmla="*/ 723960 w 1191960"/>
                <a:gd name="textAreaTop" fmla="*/ 90000 h 672480"/>
                <a:gd name="textAreaBottom" fmla="*/ 582480 h 67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1569162"/>
                  <a:lnTo>
                    <a:pt x="19693" y="8019"/>
                  </a:lnTo>
                  <a:lnTo>
                    <a:pt x="17280" y="21600"/>
                  </a:lnTo>
                  <a:lnTo>
                    <a:pt x="11053" y="8019"/>
                  </a:lnTo>
                  <a:lnTo>
                    <a:pt x="15245" y="8019"/>
                  </a:lnTo>
                  <a:arcTo wR="8576" hR="21600" stAng="-3830838" swAng="-1548789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3527280" y="335772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y phon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组合 10255"/>
          <p:cNvGrpSpPr/>
          <p:nvPr/>
        </p:nvGrpSpPr>
        <p:grpSpPr>
          <a:xfrm>
            <a:off x="4716360" y="2023920"/>
            <a:ext cx="2181240" cy="1287720"/>
            <a:chOff x="4716360" y="2023920"/>
            <a:chExt cx="2181240" cy="1287720"/>
          </a:xfrm>
        </p:grpSpPr>
        <p:sp>
          <p:nvSpPr>
            <p:cNvPr id="254" name="AutoShape 16"/>
            <p:cNvSpPr/>
            <p:nvPr/>
          </p:nvSpPr>
          <p:spPr>
            <a:xfrm rot="8280000">
              <a:off x="6206040" y="2547720"/>
              <a:ext cx="530640" cy="672840"/>
            </a:xfrm>
            <a:custGeom>
              <a:avLst/>
              <a:gdLst>
                <a:gd name="textAreaLeft" fmla="*/ 98640 w 530640"/>
                <a:gd name="textAreaRight" fmla="*/ 301680 w 530640"/>
                <a:gd name="textAreaTop" fmla="*/ 90000 h 672840"/>
                <a:gd name="textAreaBottom" fmla="*/ 582840 h 67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50" hR="21600" stAng="10800000" swAng="5400000"/>
                  <a:lnTo>
                    <a:pt x="8250" y="0"/>
                  </a:lnTo>
                  <a:arcTo wR="8050" hR="21600" stAng="-5400000" swAng="1986079"/>
                  <a:lnTo>
                    <a:pt x="20539" y="10880"/>
                  </a:lnTo>
                  <a:lnTo>
                    <a:pt x="16200" y="21600"/>
                  </a:lnTo>
                  <a:lnTo>
                    <a:pt x="9739" y="10880"/>
                  </a:lnTo>
                  <a:lnTo>
                    <a:pt x="15039" y="10880"/>
                  </a:lnTo>
                  <a:arcTo wR="8050" hR="21600" stAng="-3413921" swAng="-1970163"/>
                  <a:lnTo>
                    <a:pt x="8150" y="2"/>
                  </a:lnTo>
                  <a:arcTo wR="8050" hR="21600" stAng="-5415917" swAng="-5384083"/>
                  <a:close/>
                </a:path>
                <a:path fill="darkenLess" w="21600" h="21600">
                  <a:moveTo>
                    <a:pt x="0" y="21600"/>
                  </a:moveTo>
                  <a:arcTo wR="8050" hR="21600" stAng="10800000" swAng="5400000"/>
                  <a:lnTo>
                    <a:pt x="8050" y="0"/>
                  </a:lnTo>
                  <a:arcTo wR="8050" hR="21600" stAng="-5400000" swAng="15917"/>
                  <a:lnTo>
                    <a:pt x="8150" y="2"/>
                  </a:lnTo>
                  <a:arcTo wR="8050" hR="21600" stAng="-5415917" swAng="-5384083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4716360" y="202392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brary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8"/>
          <p:cNvSpPr/>
          <p:nvPr/>
        </p:nvSpPr>
        <p:spPr>
          <a:xfrm>
            <a:off x="4044960" y="0"/>
            <a:ext cx="5099040" cy="581400"/>
          </a:xfrm>
          <a:prstGeom prst="rect">
            <a:avLst/>
          </a:prstGeom>
          <a:solidFill>
            <a:srgbClr val="ffff9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How can I get to the pa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笑脸 19"/>
          <p:cNvSpPr/>
          <p:nvPr/>
        </p:nvSpPr>
        <p:spPr>
          <a:xfrm>
            <a:off x="7524720" y="4976640"/>
            <a:ext cx="755640" cy="6130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直角上箭头 26"/>
          <p:cNvSpPr/>
          <p:nvPr/>
        </p:nvSpPr>
        <p:spPr>
          <a:xfrm rot="18976800">
            <a:off x="7472520" y="3836520"/>
            <a:ext cx="1415880" cy="582840"/>
          </a:xfrm>
          <a:custGeom>
            <a:avLst/>
            <a:gdLst/>
            <a:ahLst/>
            <a:rect l="l" t="t" r="r" b="b"/>
            <a:pathLst>
              <a:path w="796925" h="663575">
                <a:moveTo>
                  <a:pt x="0" y="497681"/>
                </a:moveTo>
                <a:lnTo>
                  <a:pt x="548084" y="497681"/>
                </a:lnTo>
                <a:lnTo>
                  <a:pt x="548084" y="165894"/>
                </a:lnTo>
                <a:lnTo>
                  <a:pt x="465138" y="165894"/>
                </a:lnTo>
                <a:lnTo>
                  <a:pt x="631031" y="0"/>
                </a:lnTo>
                <a:lnTo>
                  <a:pt x="796925" y="165894"/>
                </a:lnTo>
                <a:lnTo>
                  <a:pt x="713978" y="165894"/>
                </a:lnTo>
                <a:lnTo>
                  <a:pt x="713978" y="663575"/>
                </a:lnTo>
                <a:lnTo>
                  <a:pt x="0" y="66357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0" y="2876400"/>
            <a:ext cx="3427560" cy="398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 along New Street and turn left. Go along Bridge Street, you can see the park on your right. It’s across from the libr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上箭头 27"/>
          <p:cNvSpPr/>
          <p:nvPr/>
        </p:nvSpPr>
        <p:spPr>
          <a:xfrm rot="18723000">
            <a:off x="7264440" y="2111400"/>
            <a:ext cx="503280" cy="172872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五角星 28"/>
          <p:cNvSpPr/>
          <p:nvPr/>
        </p:nvSpPr>
        <p:spPr>
          <a:xfrm>
            <a:off x="8101080" y="1484280"/>
            <a:ext cx="539640" cy="576360"/>
          </a:xfrm>
          <a:custGeom>
            <a:avLst/>
            <a:gdLst/>
            <a:ahLst/>
            <a:rect l="l" t="t" r="r" b="b"/>
            <a:pathLst>
              <a:path w="539750" h="576262">
                <a:moveTo>
                  <a:pt x="1" y="220112"/>
                </a:moveTo>
                <a:lnTo>
                  <a:pt x="206167" y="220113"/>
                </a:lnTo>
                <a:lnTo>
                  <a:pt x="269875" y="0"/>
                </a:lnTo>
                <a:lnTo>
                  <a:pt x="333583" y="220113"/>
                </a:lnTo>
                <a:lnTo>
                  <a:pt x="539749" y="220112"/>
                </a:lnTo>
                <a:lnTo>
                  <a:pt x="372956" y="356148"/>
                </a:lnTo>
                <a:lnTo>
                  <a:pt x="436667" y="576260"/>
                </a:lnTo>
                <a:lnTo>
                  <a:pt x="269875" y="440222"/>
                </a:lnTo>
                <a:lnTo>
                  <a:pt x="103083" y="576260"/>
                </a:lnTo>
                <a:lnTo>
                  <a:pt x="166794" y="35614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3 -0.05162 C -0.02414 -0.0794 -0.01355 -0.08495 0.00139 -0.10162 C 0.00451 -0.10509 0.00764 -0.1088 0.01076 -0.11204 C 0.01371 -0.11505 0.02014 -0.12037 0.02014 -0.12037 C 0.02708 -0.13426 0.01892 -0.1206 0.02795 -0.1287 C 0.02986 -0.13032 0.0309 -0.13333 0.03264 -0.13495 C 0.0427 -0.14444 0.05347 -0.15162 0.05764 -0.16829 C 0.05659 -0.18403 0.05781 -0.20023 0.04514 -0.20579 C 0.04409 -0.20787 0.0434 -0.21018 0.04201 -0.21204 C 0.04062 -0.21389 0.03854 -0.21435 0.03732 -0.2162 C 0.03628 -0.21782 0.03698 -0.22083 0.03576 -0.22245 C 0.0342 -0.22454 0.03142 -0.22477 0.02951 -0.22662 C 0.02378 -0.23194 0.02048 -0.23681 0.01389 -0.2412 C 0.01336 -0.24329 0.01354 -0.24583 0.01232 -0.24745 C 0.00833 -0.25278 0.00295 -0.25579 -0.00174 -0.25995 C -0.01962 -0.27593 0.00486 -0.25718 -0.00955 -0.27245 C -0.01077 -0.27384 -0.01285 -0.27338 -0.01424 -0.27454 C -0.01754 -0.27708 -0.02361 -0.28287 -0.02361 -0.28287 C -0.03091 -0.29745 -0.02674 -0.29259 -0.03455 -0.29954 C -0.03559 -0.30162 -0.03629 -0.30393 -0.03768 -0.30579 C -0.03907 -0.30764 -0.04115 -0.3081 -0.04236 -0.30995 C -0.04844 -0.32014 -0.03837 -0.31366 -0.04861 -0.31829 C -0.05434 -0.32986 -0.04861 -0.31991 -0.05643 -0.3287 C -0.06146 -0.33426 -0.06355 -0.34051 -0.06893 -0.34537 C -0.07327 -0.35417 -0.07327 -0.36319 -0.07674 -0.37245 E">
                                      <p:cBhvr>
                                        <p:cTn id="79" dur="5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B6B6-3349-45A5-BE2D-0FC83C208C9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9" descr="8142355"/>
          <p:cNvPicPr/>
          <p:nvPr/>
        </p:nvPicPr>
        <p:blipFill>
          <a:blip r:embed="rId1"/>
          <a:stretch/>
        </p:blipFill>
        <p:spPr>
          <a:xfrm>
            <a:off x="-33480" y="117360"/>
            <a:ext cx="911412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13315"/>
          <p:cNvGrpSpPr/>
          <p:nvPr/>
        </p:nvGrpSpPr>
        <p:grpSpPr>
          <a:xfrm>
            <a:off x="828720" y="865080"/>
            <a:ext cx="3018600" cy="852840"/>
            <a:chOff x="828720" y="865080"/>
            <a:chExt cx="3018600" cy="852840"/>
          </a:xfrm>
        </p:grpSpPr>
        <p:sp>
          <p:nvSpPr>
            <p:cNvPr id="265" name="AutoShape 4"/>
            <p:cNvSpPr/>
            <p:nvPr/>
          </p:nvSpPr>
          <p:spPr>
            <a:xfrm rot="3060000">
              <a:off x="3117960" y="1073160"/>
              <a:ext cx="670680" cy="471240"/>
            </a:xfrm>
            <a:custGeom>
              <a:avLst/>
              <a:gdLst>
                <a:gd name="textAreaLeft" fmla="*/ 117360 w 670680"/>
                <a:gd name="textAreaRight" fmla="*/ 486360 w 6706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5"/>
            <p:cNvSpPr/>
            <p:nvPr/>
          </p:nvSpPr>
          <p:spPr>
            <a:xfrm>
              <a:off x="828720" y="865080"/>
              <a:ext cx="23407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upermarke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组合 13318"/>
          <p:cNvGrpSpPr/>
          <p:nvPr/>
        </p:nvGrpSpPr>
        <p:grpSpPr>
          <a:xfrm>
            <a:off x="1851120" y="219240"/>
            <a:ext cx="3018600" cy="852840"/>
            <a:chOff x="1851120" y="219240"/>
            <a:chExt cx="3018600" cy="852840"/>
          </a:xfrm>
        </p:grpSpPr>
        <p:sp>
          <p:nvSpPr>
            <p:cNvPr id="268" name="AutoShape 7"/>
            <p:cNvSpPr/>
            <p:nvPr/>
          </p:nvSpPr>
          <p:spPr>
            <a:xfrm rot="3060000">
              <a:off x="4140360" y="427320"/>
              <a:ext cx="670680" cy="471240"/>
            </a:xfrm>
            <a:custGeom>
              <a:avLst/>
              <a:gdLst>
                <a:gd name="textAreaLeft" fmla="*/ 117360 w 670680"/>
                <a:gd name="textAreaRight" fmla="*/ 486360 w 6706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1851120" y="219240"/>
              <a:ext cx="23407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ost offic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0" name="组合 13321"/>
          <p:cNvGrpSpPr/>
          <p:nvPr/>
        </p:nvGrpSpPr>
        <p:grpSpPr>
          <a:xfrm>
            <a:off x="0" y="2421000"/>
            <a:ext cx="1710360" cy="768600"/>
            <a:chOff x="0" y="2421000"/>
            <a:chExt cx="1710360" cy="768600"/>
          </a:xfrm>
        </p:grpSpPr>
        <p:sp>
          <p:nvSpPr>
            <p:cNvPr id="271" name="AutoShape 10"/>
            <p:cNvSpPr/>
            <p:nvPr/>
          </p:nvSpPr>
          <p:spPr>
            <a:xfrm rot="3060000">
              <a:off x="1012680" y="2684880"/>
              <a:ext cx="726120" cy="272880"/>
            </a:xfrm>
            <a:custGeom>
              <a:avLst/>
              <a:gdLst>
                <a:gd name="textAreaLeft" fmla="*/ 126360 w 726120"/>
                <a:gd name="textAreaRight" fmla="*/ 528840 w 726120"/>
                <a:gd name="textAreaTop" fmla="*/ 36360 h 272880"/>
                <a:gd name="textAreaBottom" fmla="*/ 23652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35" hR="21600" stAng="10800000" swAng="5400000"/>
                  <a:lnTo>
                    <a:pt x="11957" y="0"/>
                  </a:lnTo>
                  <a:arcTo wR="7535" hR="21600" stAng="-5400000" swAng="1400131"/>
                  <a:lnTo>
                    <a:pt x="19924" y="8019"/>
                  </a:lnTo>
                  <a:lnTo>
                    <a:pt x="17280" y="21600"/>
                  </a:lnTo>
                  <a:lnTo>
                    <a:pt x="11284" y="8019"/>
                  </a:lnTo>
                  <a:lnTo>
                    <a:pt x="13393" y="8019"/>
                  </a:lnTo>
                  <a:arcTo wR="7535" hR="21600" stAng="-3999869" swAng="-1033431"/>
                  <a:lnTo>
                    <a:pt x="9746" y="951"/>
                  </a:lnTo>
                  <a:arcTo wR="7535" hR="21600" stAng="-5766700" swAng="-5033300"/>
                  <a:close/>
                </a:path>
                <a:path fill="darkenLess" w="21600" h="21600">
                  <a:moveTo>
                    <a:pt x="0" y="21600"/>
                  </a:moveTo>
                  <a:arcTo wR="7535" hR="21600" stAng="10800000" swAng="5400000"/>
                  <a:lnTo>
                    <a:pt x="7535" y="0"/>
                  </a:lnTo>
                  <a:arcTo wR="7535" hR="21600" stAng="-5400000" swAng="366700"/>
                  <a:lnTo>
                    <a:pt x="9746" y="951"/>
                  </a:lnTo>
                  <a:arcTo wR="7535" hR="21600" stAng="-5766700" swAng="-50333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 Box 11"/>
            <p:cNvSpPr/>
            <p:nvPr/>
          </p:nvSpPr>
          <p:spPr>
            <a:xfrm>
              <a:off x="0" y="2421000"/>
              <a:ext cx="12470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ank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3" name="组合 13324"/>
          <p:cNvGrpSpPr/>
          <p:nvPr/>
        </p:nvGrpSpPr>
        <p:grpSpPr>
          <a:xfrm>
            <a:off x="3527280" y="3357720"/>
            <a:ext cx="2181240" cy="1298160"/>
            <a:chOff x="3527280" y="3357720"/>
            <a:chExt cx="2181240" cy="1298160"/>
          </a:xfrm>
        </p:grpSpPr>
        <p:sp>
          <p:nvSpPr>
            <p:cNvPr id="274" name="AutoShape 13"/>
            <p:cNvSpPr/>
            <p:nvPr/>
          </p:nvSpPr>
          <p:spPr>
            <a:xfrm rot="8280000">
              <a:off x="3825360" y="3670920"/>
              <a:ext cx="1191960" cy="672480"/>
            </a:xfrm>
            <a:custGeom>
              <a:avLst/>
              <a:gdLst>
                <a:gd name="textAreaLeft" fmla="*/ 236520 w 1191960"/>
                <a:gd name="textAreaRight" fmla="*/ 723960 w 1191960"/>
                <a:gd name="textAreaTop" fmla="*/ 90000 h 672480"/>
                <a:gd name="textAreaBottom" fmla="*/ 582480 h 67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1569162"/>
                  <a:lnTo>
                    <a:pt x="19693" y="8019"/>
                  </a:lnTo>
                  <a:lnTo>
                    <a:pt x="17280" y="21600"/>
                  </a:lnTo>
                  <a:lnTo>
                    <a:pt x="11053" y="8019"/>
                  </a:lnTo>
                  <a:lnTo>
                    <a:pt x="15245" y="8019"/>
                  </a:lnTo>
                  <a:arcTo wR="8576" hR="21600" stAng="-3830838" swAng="-1548789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Text Box 14"/>
            <p:cNvSpPr/>
            <p:nvPr/>
          </p:nvSpPr>
          <p:spPr>
            <a:xfrm>
              <a:off x="3527280" y="335772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y phon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组合 13327"/>
          <p:cNvGrpSpPr/>
          <p:nvPr/>
        </p:nvGrpSpPr>
        <p:grpSpPr>
          <a:xfrm>
            <a:off x="4716360" y="2023920"/>
            <a:ext cx="2181240" cy="1287720"/>
            <a:chOff x="4716360" y="2023920"/>
            <a:chExt cx="2181240" cy="1287720"/>
          </a:xfrm>
        </p:grpSpPr>
        <p:sp>
          <p:nvSpPr>
            <p:cNvPr id="277" name="AutoShape 16"/>
            <p:cNvSpPr/>
            <p:nvPr/>
          </p:nvSpPr>
          <p:spPr>
            <a:xfrm rot="8280000">
              <a:off x="6206040" y="2547720"/>
              <a:ext cx="530640" cy="672840"/>
            </a:xfrm>
            <a:custGeom>
              <a:avLst/>
              <a:gdLst>
                <a:gd name="textAreaLeft" fmla="*/ 98640 w 530640"/>
                <a:gd name="textAreaRight" fmla="*/ 301680 w 530640"/>
                <a:gd name="textAreaTop" fmla="*/ 90000 h 672840"/>
                <a:gd name="textAreaBottom" fmla="*/ 582840 h 67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50" hR="21600" stAng="10800000" swAng="5400000"/>
                  <a:lnTo>
                    <a:pt x="8250" y="0"/>
                  </a:lnTo>
                  <a:arcTo wR="8050" hR="21600" stAng="-5400000" swAng="1986079"/>
                  <a:lnTo>
                    <a:pt x="20539" y="10880"/>
                  </a:lnTo>
                  <a:lnTo>
                    <a:pt x="16200" y="21600"/>
                  </a:lnTo>
                  <a:lnTo>
                    <a:pt x="9739" y="10880"/>
                  </a:lnTo>
                  <a:lnTo>
                    <a:pt x="15039" y="10880"/>
                  </a:lnTo>
                  <a:arcTo wR="8050" hR="21600" stAng="-3413921" swAng="-1970163"/>
                  <a:lnTo>
                    <a:pt x="8150" y="2"/>
                  </a:lnTo>
                  <a:arcTo wR="8050" hR="21600" stAng="-5415917" swAng="-5384083"/>
                  <a:close/>
                </a:path>
                <a:path fill="darkenLess" w="21600" h="21600">
                  <a:moveTo>
                    <a:pt x="0" y="21600"/>
                  </a:moveTo>
                  <a:arcTo wR="8050" hR="21600" stAng="10800000" swAng="5400000"/>
                  <a:lnTo>
                    <a:pt x="8050" y="0"/>
                  </a:lnTo>
                  <a:arcTo wR="8050" hR="21600" stAng="-5400000" swAng="15917"/>
                  <a:lnTo>
                    <a:pt x="8150" y="2"/>
                  </a:lnTo>
                  <a:arcTo wR="8050" hR="21600" stAng="-5415917" swAng="-5384083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4716360" y="202392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brary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Text Box 18"/>
          <p:cNvSpPr/>
          <p:nvPr/>
        </p:nvSpPr>
        <p:spPr>
          <a:xfrm>
            <a:off x="4680000" y="189000"/>
            <a:ext cx="4351320" cy="581400"/>
          </a:xfrm>
          <a:prstGeom prst="rect">
            <a:avLst/>
          </a:prstGeom>
          <a:solidFill>
            <a:srgbClr val="ffff9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How can I get to 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笑脸 19"/>
          <p:cNvSpPr/>
          <p:nvPr/>
        </p:nvSpPr>
        <p:spPr>
          <a:xfrm>
            <a:off x="7524720" y="4976640"/>
            <a:ext cx="755640" cy="6130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组合 13335"/>
          <p:cNvGrpSpPr/>
          <p:nvPr/>
        </p:nvGrpSpPr>
        <p:grpSpPr>
          <a:xfrm>
            <a:off x="3139920" y="4793760"/>
            <a:ext cx="1749600" cy="1705680"/>
            <a:chOff x="3139920" y="4793760"/>
            <a:chExt cx="1749600" cy="1705680"/>
          </a:xfrm>
        </p:grpSpPr>
        <p:pic>
          <p:nvPicPr>
            <p:cNvPr id="282" name="左箭头 28" descr=""/>
            <p:cNvPicPr/>
            <p:nvPr/>
          </p:nvPicPr>
          <p:blipFill>
            <a:blip r:embed="rId2"/>
            <a:stretch/>
          </p:blipFill>
          <p:spPr>
            <a:xfrm>
              <a:off x="3139920" y="4793760"/>
              <a:ext cx="1749600" cy="170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3337"/>
            <p:cNvSpPr/>
            <p:nvPr/>
          </p:nvSpPr>
          <p:spPr>
            <a:xfrm rot="2825400">
              <a:off x="3098880" y="5533200"/>
              <a:ext cx="184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圆角右箭头 37"/>
          <p:cNvSpPr/>
          <p:nvPr/>
        </p:nvSpPr>
        <p:spPr>
          <a:xfrm rot="13398600">
            <a:off x="5079960" y="6249600"/>
            <a:ext cx="743040" cy="725400"/>
          </a:xfrm>
          <a:custGeom>
            <a:avLst/>
            <a:gdLst/>
            <a:ahLst/>
            <a:rect l="l" t="t" r="r" b="b"/>
            <a:pathLst>
              <a:path w="742950" h="725487">
                <a:moveTo>
                  <a:pt x="0" y="725487"/>
                </a:moveTo>
                <a:lnTo>
                  <a:pt x="0" y="408086"/>
                </a:lnTo>
                <a:cubicBezTo>
                  <a:pt x="0" y="232790"/>
                  <a:pt x="142105" y="90685"/>
                  <a:pt x="317401" y="90685"/>
                </a:cubicBezTo>
                <a:cubicBezTo>
                  <a:pt x="317401" y="90685"/>
                  <a:pt x="317402" y="90685"/>
                  <a:pt x="317402" y="90685"/>
                </a:cubicBezTo>
                <a:lnTo>
                  <a:pt x="561578" y="90686"/>
                </a:lnTo>
                <a:lnTo>
                  <a:pt x="561578" y="0"/>
                </a:lnTo>
                <a:lnTo>
                  <a:pt x="742950" y="181372"/>
                </a:lnTo>
                <a:lnTo>
                  <a:pt x="561578" y="362744"/>
                </a:lnTo>
                <a:lnTo>
                  <a:pt x="561578" y="272058"/>
                </a:lnTo>
                <a:lnTo>
                  <a:pt x="317401" y="272058"/>
                </a:lnTo>
                <a:cubicBezTo>
                  <a:pt x="242274" y="272058"/>
                  <a:pt x="181372" y="332960"/>
                  <a:pt x="181372" y="408087"/>
                </a:cubicBezTo>
                <a:lnTo>
                  <a:pt x="181372" y="72548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矩形 39"/>
          <p:cNvSpPr/>
          <p:nvPr/>
        </p:nvSpPr>
        <p:spPr>
          <a:xfrm>
            <a:off x="0" y="152280"/>
            <a:ext cx="4249800" cy="25527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 along New Street and turn righ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at the first cros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's on your left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ross from  th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ay phon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五角星 40"/>
          <p:cNvSpPr/>
          <p:nvPr/>
        </p:nvSpPr>
        <p:spPr>
          <a:xfrm>
            <a:off x="2016000" y="5084640"/>
            <a:ext cx="540000" cy="576360"/>
          </a:xfrm>
          <a:custGeom>
            <a:avLst/>
            <a:gdLst/>
            <a:ahLst/>
            <a:rect l="l" t="t" r="r" b="b"/>
            <a:pathLst>
              <a:path w="539750" h="576262">
                <a:moveTo>
                  <a:pt x="1" y="220112"/>
                </a:moveTo>
                <a:lnTo>
                  <a:pt x="206167" y="220113"/>
                </a:lnTo>
                <a:lnTo>
                  <a:pt x="269875" y="0"/>
                </a:lnTo>
                <a:lnTo>
                  <a:pt x="333583" y="220113"/>
                </a:lnTo>
                <a:lnTo>
                  <a:pt x="539749" y="220112"/>
                </a:lnTo>
                <a:lnTo>
                  <a:pt x="372956" y="356148"/>
                </a:lnTo>
                <a:lnTo>
                  <a:pt x="436667" y="576260"/>
                </a:lnTo>
                <a:lnTo>
                  <a:pt x="269875" y="440222"/>
                </a:lnTo>
                <a:lnTo>
                  <a:pt x="103083" y="576260"/>
                </a:lnTo>
                <a:lnTo>
                  <a:pt x="166794" y="35614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986 0.032963 L -0.071527 0.0375 L -0.078333 0.048889 L -0.085139 0.060278 L -0.09368 0.071667 L -0.100555 0.083056 L -0.109027 0.094444 L -0.117569 0.105833 L -0.126111 0.112593 L -0.134652 0.11713 L -0.143194 0.126296 L -0.15 0.137685 L -0.158541 0.144444 L -0.167083 0.148981 L -0.175625 0.153611 L -0.184166 0.155833 L -0.192708 0.16037 L -0.20118 0.164907 L -0.209722 0.171759 L -0.218264 0.176296 L -0.226805 0.178611 L -0.235347 0.183148 L -0.243889 0.185463 L -0.250694 0.196759 L -0.259236 0.205926 L -0.266041 0.217315 L -0.274583 0.226389 L -0.283125 0.235463 L -0.291666 0.235463 L -0.300208 0.235463 L -0.30875 0.235463 L -0.317222 0.235463 L -0.325764 0.233241 L -0.334305 0.224074 L -0.342847 0.212685 L -0.351389 0.203611 L -0.35993 0.196759 L -0.368472 0.187685 L -0.375277 0.176296 L -0.382083 0.164907 L -0.387222 0.153611 L -0.394027 0.142222 L -0.400833 0.130833 L -0.405972 0.119444 L -0.411111 0.105833 L -0.417916 0.094444 L -0.421319 0.083056 L -0.428194 0.071667 L -0.436736 0.060278 L -0.445208 0.048889 L -0.452083 0.0375 L -0.457152 0.026111 L -0.465694 0.014815 L -0.472569 0.003426 L -0.479375 -0.007963 L -0.48618 -0.019352 L -0.492986 -0.030741 L -0.501527 -0.037593 L -0.508402 -0.048889 L -0.515208 -0.060278 L -0.513472 -0.055741 L -0.508402 -0.060278 L -0.510069 -0.058056 E">
                                      <p:cBhvr>
                                        <p:cTn id="11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8142355"/>
          <p:cNvPicPr/>
          <p:nvPr/>
        </p:nvPicPr>
        <p:blipFill>
          <a:blip r:embed="rId1"/>
          <a:stretch/>
        </p:blipFill>
        <p:spPr>
          <a:xfrm>
            <a:off x="76320" y="0"/>
            <a:ext cx="9117000" cy="682164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12291"/>
          <p:cNvGrpSpPr/>
          <p:nvPr/>
        </p:nvGrpSpPr>
        <p:grpSpPr>
          <a:xfrm>
            <a:off x="1152360" y="800280"/>
            <a:ext cx="3018600" cy="852840"/>
            <a:chOff x="1152360" y="800280"/>
            <a:chExt cx="3018600" cy="852840"/>
          </a:xfrm>
        </p:grpSpPr>
        <p:sp>
          <p:nvSpPr>
            <p:cNvPr id="289" name="AutoShape 4"/>
            <p:cNvSpPr/>
            <p:nvPr/>
          </p:nvSpPr>
          <p:spPr>
            <a:xfrm rot="3060000">
              <a:off x="3441600" y="1008360"/>
              <a:ext cx="670680" cy="471240"/>
            </a:xfrm>
            <a:custGeom>
              <a:avLst/>
              <a:gdLst>
                <a:gd name="textAreaLeft" fmla="*/ 117360 w 670680"/>
                <a:gd name="textAreaRight" fmla="*/ 486360 w 6706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Text Box 5"/>
            <p:cNvSpPr/>
            <p:nvPr/>
          </p:nvSpPr>
          <p:spPr>
            <a:xfrm>
              <a:off x="1152360" y="800280"/>
              <a:ext cx="2341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upermarke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1" name="组合 12294"/>
          <p:cNvGrpSpPr/>
          <p:nvPr/>
        </p:nvGrpSpPr>
        <p:grpSpPr>
          <a:xfrm>
            <a:off x="1655640" y="260280"/>
            <a:ext cx="3019320" cy="854640"/>
            <a:chOff x="1655640" y="260280"/>
            <a:chExt cx="3019320" cy="854640"/>
          </a:xfrm>
        </p:grpSpPr>
        <p:sp>
          <p:nvSpPr>
            <p:cNvPr id="292" name="AutoShape 7"/>
            <p:cNvSpPr/>
            <p:nvPr/>
          </p:nvSpPr>
          <p:spPr>
            <a:xfrm rot="3060000">
              <a:off x="3943800" y="469800"/>
              <a:ext cx="672480" cy="471240"/>
            </a:xfrm>
            <a:custGeom>
              <a:avLst/>
              <a:gdLst>
                <a:gd name="textAreaLeft" fmla="*/ 117720 w 672480"/>
                <a:gd name="textAreaRight" fmla="*/ 487800 w 672480"/>
                <a:gd name="textAreaTop" fmla="*/ 63000 h 471240"/>
                <a:gd name="textAreaBottom" fmla="*/ 40824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404360"/>
                  <a:lnTo>
                    <a:pt x="19919" y="8019"/>
                  </a:lnTo>
                  <a:lnTo>
                    <a:pt x="17280" y="21600"/>
                  </a:lnTo>
                  <a:lnTo>
                    <a:pt x="11279" y="8019"/>
                  </a:lnTo>
                  <a:lnTo>
                    <a:pt x="13439" y="8019"/>
                  </a:lnTo>
                  <a:arcTo wR="7560" hR="21600" stAng="-3995640" swAng="-1046925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>
              <a:off x="1655640" y="260280"/>
              <a:ext cx="2341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ost offic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4" name="组合 12297"/>
          <p:cNvGrpSpPr/>
          <p:nvPr/>
        </p:nvGrpSpPr>
        <p:grpSpPr>
          <a:xfrm>
            <a:off x="0" y="2421000"/>
            <a:ext cx="1710360" cy="768600"/>
            <a:chOff x="0" y="2421000"/>
            <a:chExt cx="1710360" cy="768600"/>
          </a:xfrm>
        </p:grpSpPr>
        <p:sp>
          <p:nvSpPr>
            <p:cNvPr id="295" name="AutoShape 10"/>
            <p:cNvSpPr/>
            <p:nvPr/>
          </p:nvSpPr>
          <p:spPr>
            <a:xfrm rot="3060000">
              <a:off x="1012680" y="2684880"/>
              <a:ext cx="726120" cy="272880"/>
            </a:xfrm>
            <a:custGeom>
              <a:avLst/>
              <a:gdLst>
                <a:gd name="textAreaLeft" fmla="*/ 126360 w 726120"/>
                <a:gd name="textAreaRight" fmla="*/ 528840 w 726120"/>
                <a:gd name="textAreaTop" fmla="*/ 36360 h 272880"/>
                <a:gd name="textAreaBottom" fmla="*/ 23652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35" hR="21600" stAng="10800000" swAng="5400000"/>
                  <a:lnTo>
                    <a:pt x="11957" y="0"/>
                  </a:lnTo>
                  <a:arcTo wR="7535" hR="21600" stAng="-5400000" swAng="1400131"/>
                  <a:lnTo>
                    <a:pt x="19924" y="8019"/>
                  </a:lnTo>
                  <a:lnTo>
                    <a:pt x="17280" y="21600"/>
                  </a:lnTo>
                  <a:lnTo>
                    <a:pt x="11284" y="8019"/>
                  </a:lnTo>
                  <a:lnTo>
                    <a:pt x="13393" y="8019"/>
                  </a:lnTo>
                  <a:arcTo wR="7535" hR="21600" stAng="-3999869" swAng="-1033431"/>
                  <a:lnTo>
                    <a:pt x="9746" y="951"/>
                  </a:lnTo>
                  <a:arcTo wR="7535" hR="21600" stAng="-5766700" swAng="-5033300"/>
                  <a:close/>
                </a:path>
                <a:path fill="darkenLess" w="21600" h="21600">
                  <a:moveTo>
                    <a:pt x="0" y="21600"/>
                  </a:moveTo>
                  <a:arcTo wR="7535" hR="21600" stAng="10800000" swAng="5400000"/>
                  <a:lnTo>
                    <a:pt x="7535" y="0"/>
                  </a:lnTo>
                  <a:arcTo wR="7535" hR="21600" stAng="-5400000" swAng="366700"/>
                  <a:lnTo>
                    <a:pt x="9746" y="951"/>
                  </a:lnTo>
                  <a:arcTo wR="7535" hR="21600" stAng="-5766700" swAng="-50333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Text Box 11"/>
            <p:cNvSpPr/>
            <p:nvPr/>
          </p:nvSpPr>
          <p:spPr>
            <a:xfrm>
              <a:off x="0" y="2421000"/>
              <a:ext cx="12470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ank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7" name="组合 12300"/>
          <p:cNvGrpSpPr/>
          <p:nvPr/>
        </p:nvGrpSpPr>
        <p:grpSpPr>
          <a:xfrm>
            <a:off x="3527280" y="3357720"/>
            <a:ext cx="2181240" cy="1298160"/>
            <a:chOff x="3527280" y="3357720"/>
            <a:chExt cx="2181240" cy="1298160"/>
          </a:xfrm>
        </p:grpSpPr>
        <p:sp>
          <p:nvSpPr>
            <p:cNvPr id="298" name="AutoShape 13"/>
            <p:cNvSpPr/>
            <p:nvPr/>
          </p:nvSpPr>
          <p:spPr>
            <a:xfrm rot="8280000">
              <a:off x="3825360" y="3670920"/>
              <a:ext cx="1191960" cy="672480"/>
            </a:xfrm>
            <a:custGeom>
              <a:avLst/>
              <a:gdLst>
                <a:gd name="textAreaLeft" fmla="*/ 236520 w 1191960"/>
                <a:gd name="textAreaRight" fmla="*/ 723960 w 1191960"/>
                <a:gd name="textAreaTop" fmla="*/ 90000 h 672480"/>
                <a:gd name="textAreaBottom" fmla="*/ 582480 h 67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1569162"/>
                  <a:lnTo>
                    <a:pt x="19693" y="8019"/>
                  </a:lnTo>
                  <a:lnTo>
                    <a:pt x="17280" y="21600"/>
                  </a:lnTo>
                  <a:lnTo>
                    <a:pt x="11053" y="8019"/>
                  </a:lnTo>
                  <a:lnTo>
                    <a:pt x="15245" y="8019"/>
                  </a:lnTo>
                  <a:arcTo wR="8576" hR="21600" stAng="-3830838" swAng="-1548789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Text Box 14"/>
            <p:cNvSpPr/>
            <p:nvPr/>
          </p:nvSpPr>
          <p:spPr>
            <a:xfrm>
              <a:off x="3527280" y="335772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y phon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0" name="组合 12303"/>
          <p:cNvGrpSpPr/>
          <p:nvPr/>
        </p:nvGrpSpPr>
        <p:grpSpPr>
          <a:xfrm>
            <a:off x="4896000" y="2205000"/>
            <a:ext cx="2181240" cy="1287720"/>
            <a:chOff x="4896000" y="2205000"/>
            <a:chExt cx="2181240" cy="1287720"/>
          </a:xfrm>
        </p:grpSpPr>
        <p:sp>
          <p:nvSpPr>
            <p:cNvPr id="301" name="AutoShape 16"/>
            <p:cNvSpPr/>
            <p:nvPr/>
          </p:nvSpPr>
          <p:spPr>
            <a:xfrm rot="8280000">
              <a:off x="6385680" y="2728800"/>
              <a:ext cx="530640" cy="672840"/>
            </a:xfrm>
            <a:custGeom>
              <a:avLst/>
              <a:gdLst>
                <a:gd name="textAreaLeft" fmla="*/ 98640 w 530640"/>
                <a:gd name="textAreaRight" fmla="*/ 301680 w 530640"/>
                <a:gd name="textAreaTop" fmla="*/ 90000 h 672840"/>
                <a:gd name="textAreaBottom" fmla="*/ 582840 h 67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50" hR="21600" stAng="10800000" swAng="5400000"/>
                  <a:lnTo>
                    <a:pt x="8250" y="0"/>
                  </a:lnTo>
                  <a:arcTo wR="8050" hR="21600" stAng="-5400000" swAng="1986079"/>
                  <a:lnTo>
                    <a:pt x="20539" y="10880"/>
                  </a:lnTo>
                  <a:lnTo>
                    <a:pt x="16200" y="21600"/>
                  </a:lnTo>
                  <a:lnTo>
                    <a:pt x="9739" y="10880"/>
                  </a:lnTo>
                  <a:lnTo>
                    <a:pt x="15039" y="10880"/>
                  </a:lnTo>
                  <a:arcTo wR="8050" hR="21600" stAng="-3413921" swAng="-1970163"/>
                  <a:lnTo>
                    <a:pt x="8150" y="2"/>
                  </a:lnTo>
                  <a:arcTo wR="8050" hR="21600" stAng="-5415917" swAng="-5384083"/>
                  <a:close/>
                </a:path>
                <a:path fill="darkenLess" w="21600" h="21600">
                  <a:moveTo>
                    <a:pt x="0" y="21600"/>
                  </a:moveTo>
                  <a:arcTo wR="8050" hR="21600" stAng="10800000" swAng="5400000"/>
                  <a:lnTo>
                    <a:pt x="8050" y="0"/>
                  </a:lnTo>
                  <a:arcTo wR="8050" hR="21600" stAng="-5400000" swAng="15917"/>
                  <a:lnTo>
                    <a:pt x="8150" y="2"/>
                  </a:lnTo>
                  <a:arcTo wR="8050" hR="21600" stAng="-5415917" swAng="-5384083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4896000" y="2205000"/>
              <a:ext cx="21812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brary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Text Box 18"/>
          <p:cNvSpPr/>
          <p:nvPr/>
        </p:nvSpPr>
        <p:spPr>
          <a:xfrm>
            <a:off x="4044960" y="0"/>
            <a:ext cx="5099040" cy="581400"/>
          </a:xfrm>
          <a:prstGeom prst="rect">
            <a:avLst/>
          </a:prstGeom>
          <a:solidFill>
            <a:srgbClr val="ffff9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How can I get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笑脸 19"/>
          <p:cNvSpPr/>
          <p:nvPr/>
        </p:nvSpPr>
        <p:spPr>
          <a:xfrm>
            <a:off x="7596360" y="4437000"/>
            <a:ext cx="684000" cy="7207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直角上箭头 26"/>
          <p:cNvSpPr/>
          <p:nvPr/>
        </p:nvSpPr>
        <p:spPr>
          <a:xfrm flipH="1" rot="18977400">
            <a:off x="5064480" y="2120400"/>
            <a:ext cx="75960" cy="289080"/>
          </a:xfrm>
          <a:custGeom>
            <a:avLst/>
            <a:gdLst/>
            <a:ahLst/>
            <a:rect l="l" t="t" r="r" b="b"/>
            <a:pathLst>
              <a:path w="796925" h="663575">
                <a:moveTo>
                  <a:pt x="0" y="497681"/>
                </a:moveTo>
                <a:lnTo>
                  <a:pt x="548084" y="497681"/>
                </a:lnTo>
                <a:lnTo>
                  <a:pt x="548084" y="165894"/>
                </a:lnTo>
                <a:lnTo>
                  <a:pt x="465138" y="165894"/>
                </a:lnTo>
                <a:lnTo>
                  <a:pt x="631031" y="0"/>
                </a:lnTo>
                <a:lnTo>
                  <a:pt x="796925" y="165894"/>
                </a:lnTo>
                <a:lnTo>
                  <a:pt x="713978" y="165894"/>
                </a:lnTo>
                <a:lnTo>
                  <a:pt x="713978" y="663575"/>
                </a:lnTo>
                <a:lnTo>
                  <a:pt x="0" y="66357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矩形 25"/>
          <p:cNvSpPr/>
          <p:nvPr/>
        </p:nvSpPr>
        <p:spPr>
          <a:xfrm>
            <a:off x="76320" y="3352680"/>
            <a:ext cx="4276440" cy="34228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lo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idge Stre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d tur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when you see the library. Go alo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ng Stree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nd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’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on the right 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t’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nex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supermarke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ross fro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he bank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上箭头 27"/>
          <p:cNvSpPr/>
          <p:nvPr/>
        </p:nvSpPr>
        <p:spPr>
          <a:xfrm rot="18723000">
            <a:off x="7140240" y="1319040"/>
            <a:ext cx="501840" cy="2832120"/>
          </a:xfrm>
          <a:prstGeom prst="upArrow">
            <a:avLst>
              <a:gd name="adj1" fmla="val 50000"/>
              <a:gd name="adj2" fmla="val 8203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五角星 28"/>
          <p:cNvSpPr/>
          <p:nvPr/>
        </p:nvSpPr>
        <p:spPr>
          <a:xfrm>
            <a:off x="2952720" y="2349360"/>
            <a:ext cx="539640" cy="574920"/>
          </a:xfrm>
          <a:custGeom>
            <a:avLst/>
            <a:gdLst/>
            <a:ahLst/>
            <a:rect l="l" t="t" r="r" b="b"/>
            <a:pathLst>
              <a:path w="539750" h="576262">
                <a:moveTo>
                  <a:pt x="1" y="220112"/>
                </a:moveTo>
                <a:lnTo>
                  <a:pt x="206167" y="220113"/>
                </a:lnTo>
                <a:lnTo>
                  <a:pt x="269875" y="0"/>
                </a:lnTo>
                <a:lnTo>
                  <a:pt x="333583" y="220113"/>
                </a:lnTo>
                <a:lnTo>
                  <a:pt x="539749" y="220112"/>
                </a:lnTo>
                <a:lnTo>
                  <a:pt x="372956" y="356148"/>
                </a:lnTo>
                <a:lnTo>
                  <a:pt x="436667" y="576260"/>
                </a:lnTo>
                <a:lnTo>
                  <a:pt x="269875" y="440222"/>
                </a:lnTo>
                <a:lnTo>
                  <a:pt x="103083" y="576260"/>
                </a:lnTo>
                <a:lnTo>
                  <a:pt x="166794" y="35614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87640" y="1376280"/>
            <a:ext cx="1260720" cy="1008000"/>
            <a:chOff x="3887640" y="1376280"/>
            <a:chExt cx="1260720" cy="1008000"/>
          </a:xfrm>
        </p:grpSpPr>
        <p:sp>
          <p:nvSpPr>
            <p:cNvPr id="310" name="箭头 296"/>
            <p:cNvSpPr/>
            <p:nvPr/>
          </p:nvSpPr>
          <p:spPr>
            <a:xfrm flipH="1">
              <a:off x="3887640" y="1376280"/>
              <a:ext cx="1260720" cy="1008000"/>
            </a:xfrm>
            <a:prstGeom prst="line">
              <a:avLst/>
            </a:prstGeom>
            <a:ln w="139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887640" y="1376280"/>
              <a:ext cx="12607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2" name="直角上箭头 1"/>
          <p:cNvSpPr/>
          <p:nvPr/>
        </p:nvSpPr>
        <p:spPr>
          <a:xfrm rot="13680000">
            <a:off x="5211720" y="1137960"/>
            <a:ext cx="1052640" cy="550800"/>
          </a:xfrm>
          <a:custGeom>
            <a:avLst/>
            <a:gdLst/>
            <a:ahLst/>
            <a:rect l="l" t="t" r="r" b="b"/>
            <a:pathLst>
              <a:path w="1052512" h="550862">
                <a:moveTo>
                  <a:pt x="0" y="413146"/>
                </a:moveTo>
                <a:lnTo>
                  <a:pt x="845939" y="413146"/>
                </a:lnTo>
                <a:lnTo>
                  <a:pt x="845939" y="137715"/>
                </a:lnTo>
                <a:lnTo>
                  <a:pt x="777081" y="137715"/>
                </a:lnTo>
                <a:lnTo>
                  <a:pt x="914796" y="0"/>
                </a:lnTo>
                <a:lnTo>
                  <a:pt x="1052512" y="137715"/>
                </a:lnTo>
                <a:lnTo>
                  <a:pt x="983654" y="137715"/>
                </a:lnTo>
                <a:lnTo>
                  <a:pt x="983654" y="550862"/>
                </a:lnTo>
                <a:lnTo>
                  <a:pt x="0" y="550862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407 -0.057035 L 0.043971 -0.068424 L 0.048792 -0.079813 L 0.056806 -0.091202 L 0.063192 -0.102498 L 0.066385 -0.113887 L 0.069577 -0.125276 L 0.076028 -0.136665 L 0.076028 -0.148054 L 0.076028 -0.159443 L 0.071206 -0.170832 L 0.063192 -0.184443 L 0.056806 -0.195832 L 0.051985 -0.207222 L 0.0456 -0.218609 L 0.040778 -0.229998 L 0.032764 -0.239072 L 0.028008 -0.250461 L 0.019993 -0.259536 L 0.011979 -0.266388 L 0.003965 -0.275461 L -0.004049 -0.284535 L -0.010434 -0.295924 L -0.020077 -0.307313 L -0.028091 -0.314166 L -0.036041 -0.325554 L -0.044055 -0.332313 L -0.052068 -0.339165 L -0.060083 -0.343703 L -0.068097 -0.350557 L -0.07611 -0.359628 L -0.084125 -0.371018 L -0.092074 -0.380091 L -0.098525 -0.39148 L -0.106539 -0.400646 L -0.116116 -0.41426 L -0.12413 -0.423332 L -0.132144 -0.434721 L -0.140158 -0.446111 L -0.148172 -0.455187 L -0.156122 -0.466572 L -0.164136 -0.477963 L -0.172149 -0.487035 L -0.180164 -0.493888 L -0.188178 -0.502961 L -0.196191 -0.509813 L -0.204206 -0.498424 L -0.212155 -0.489351 L -0.220169 -0.487035 L -0.228184 -0.484813 L -0.236197 -0.482498 L -0.242582 -0.47111 L -0.250597 -0.466572 L -0.258611 -0.462037 L -0.266626 -0.455187 L -0.274639 -0.446111 L -0.282653 -0.43926 L -0.290668 -0.432498 L -0.297052 -0.421111 L -0.305066 -0.41426 L -0.313081 -0.407407 L -0.32103 -0.402869 L -0.329044 -0.402869 L -0.338687 -0.396018 L -0.346701 -0.38926 L -0.354715 -0.384721 L -0.362664 -0.377869 L -0.370679 -0.377869 L -0.380321 -0.375554 L -0.388335 -0.368796 L -0.396284 -0.361944 L -0.404299 -0.359628 L -0.412313 -0.357406 L -0.418698 -0.346018 L -0.425148 -0.33463 L -0.433163 -0.32324 L -0.437917 -0.311852 L -0.44274 -0.300462 L -0.450754 -0.289165 L -0.458768 -0.277777 L -0.465154 -0.266388 L -0.465154 -0.282314 L -0.455576 -0.277777 L -0.463589 -0.282314 E">
                                      <p:cBhvr>
                                        <p:cTn id="14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1"/>
          <p:cNvSpPr/>
          <p:nvPr/>
        </p:nvSpPr>
        <p:spPr>
          <a:xfrm>
            <a:off x="3200400" y="380880"/>
            <a:ext cx="28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vision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文本框 2"/>
          <p:cNvSpPr/>
          <p:nvPr/>
        </p:nvSpPr>
        <p:spPr>
          <a:xfrm>
            <a:off x="609480" y="990720"/>
            <a:ext cx="7682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饭店在你的左边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沿着这条街走，在第一个十字路口左转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公园里没有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明天你有空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29699"/>
          <p:cNvSpPr/>
          <p:nvPr/>
        </p:nvSpPr>
        <p:spPr>
          <a:xfrm>
            <a:off x="228600" y="914400"/>
            <a:ext cx="7161120" cy="72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我朋友们一起度过时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费一小时给他父母写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爬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观看他们下象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过马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附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矩形 29700"/>
          <p:cNvSpPr txBox="1"/>
          <p:nvPr/>
        </p:nvSpPr>
        <p:spPr>
          <a:xfrm>
            <a:off x="1447920" y="152280"/>
            <a:ext cx="4078080" cy="7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hrases 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8" name="文本框 29701"/>
          <p:cNvSpPr/>
          <p:nvPr/>
        </p:nvSpPr>
        <p:spPr>
          <a:xfrm>
            <a:off x="1371600" y="3048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mb the mount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文本框 29703"/>
          <p:cNvSpPr/>
          <p:nvPr/>
        </p:nvSpPr>
        <p:spPr>
          <a:xfrm>
            <a:off x="1066680" y="5029200"/>
            <a:ext cx="75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ss the road = go across the ro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文本框 29704"/>
          <p:cNvSpPr/>
          <p:nvPr/>
        </p:nvSpPr>
        <p:spPr>
          <a:xfrm>
            <a:off x="1447920" y="2438280"/>
            <a:ext cx="79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nd an hour writing to his par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文本框 29705"/>
          <p:cNvSpPr/>
          <p:nvPr/>
        </p:nvSpPr>
        <p:spPr>
          <a:xfrm>
            <a:off x="1523880" y="411480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 them playing ch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文本框 29706"/>
          <p:cNvSpPr/>
          <p:nvPr/>
        </p:nvSpPr>
        <p:spPr>
          <a:xfrm>
            <a:off x="1600200" y="1371600"/>
            <a:ext cx="76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nd time with my fri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文本框 1"/>
          <p:cNvSpPr/>
          <p:nvPr/>
        </p:nvSpPr>
        <p:spPr>
          <a:xfrm>
            <a:off x="1981080" y="5715000"/>
            <a:ext cx="75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neighborh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29699"/>
          <p:cNvSpPr/>
          <p:nvPr/>
        </p:nvSpPr>
        <p:spPr>
          <a:xfrm>
            <a:off x="228600" y="914400"/>
            <a:ext cx="7161120" cy="78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食物都免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花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分钟步行去医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那个来自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班的男孩经常帮我学数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我们正在观看孩子们跳舞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矩形 29700"/>
          <p:cNvSpPr txBox="1"/>
          <p:nvPr/>
        </p:nvSpPr>
        <p:spPr>
          <a:xfrm>
            <a:off x="1447920" y="152280"/>
            <a:ext cx="4078080" cy="7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ntences 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7" name="文本框 29701"/>
          <p:cNvSpPr/>
          <p:nvPr/>
        </p:nvSpPr>
        <p:spPr>
          <a:xfrm>
            <a:off x="380880" y="4114800"/>
            <a:ext cx="78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boy from Class 2 often helps me with my ma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文本框 29704"/>
          <p:cNvSpPr/>
          <p:nvPr/>
        </p:nvSpPr>
        <p:spPr>
          <a:xfrm>
            <a:off x="380880" y="2438280"/>
            <a:ext cx="78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spends over ten minutes walking to the hospita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文本框 29705"/>
          <p:cNvSpPr/>
          <p:nvPr/>
        </p:nvSpPr>
        <p:spPr>
          <a:xfrm>
            <a:off x="228600" y="5791320"/>
            <a:ext cx="84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are watching the children  danc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文本框 29706"/>
          <p:cNvSpPr/>
          <p:nvPr/>
        </p:nvSpPr>
        <p:spPr>
          <a:xfrm>
            <a:off x="457200" y="1447920"/>
            <a:ext cx="76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l the food is fre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108144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. How does Anna get to the zo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. Where is the pa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. Where is the post offi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115200" y="42840"/>
            <a:ext cx="81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ad 2b carefully and answer the ques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457200" y="1523880"/>
            <a:ext cx="751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walks out and turns right on Bridge Road. Then she walks along Bridge Road. The zoo is on the r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764280" y="350532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ross from the supermark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30280" y="4648320"/>
            <a:ext cx="83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 Lisa’s house and a clothes st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23:35:34Z</dcterms:created>
  <dc:creator/>
  <dc:description/>
  <dc:language>en-US</dc:language>
  <cp:lastModifiedBy>Administrator</cp:lastModifiedBy>
  <dcterms:modified xsi:type="dcterms:W3CDTF">2016-05-13T07:42:5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